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34932"/>
        <c:axId val="97315596"/>
      </c:barChart>
      <c:catAx>
        <c:axId val="88334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15596"/>
        <c:crosses val="autoZero"/>
        <c:auto val="1"/>
        <c:lblAlgn val="ctr"/>
        <c:lblOffset val="100"/>
        <c:noMultiLvlLbl val="0"/>
      </c:catAx>
      <c:valAx>
        <c:axId val="97315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4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788-6169-4CB1-84B9-7EC023A2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4C0-7509-47B4-83A9-0D98895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815-6545-488D-8B05-38BD5329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EAC-D348-4BF8-91A0-9C13FFA6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6CC-C02F-42E7-8311-55A70B9C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1CF-659C-4079-8DE3-5761FD4E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6F4-E482-47D5-939A-4545243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412-C4F0-4437-AEA6-1D9AD5C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159-585E-4867-AD12-72396C8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131-6044-4C6D-BFC3-C89F06F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9BE-DA18-4F43-92CF-0AF21C1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62F-9FC6-4633-B285-01A3D5A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5869-6145-482E-9A94-F2B9D329C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