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902825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1CAD8E-0145-49DD-B555-6EE6746998F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BF608A-5F62-4584-9B0F-8827161BA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D7DDE7-2DF7-44E6-99C7-9A7865B9E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02948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90336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5560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02948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90336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19E37F-D76A-42D6-9F41-0801FD1998C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722680" y="228240"/>
            <a:ext cx="660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AB7F62-3AA9-49D4-991D-802566FE7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02948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90336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15560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02948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90336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595DA7-A6F6-429C-AD52-BE5781D24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2AD70E-49B6-47F1-BF6C-0280CAFA5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D1F237-9928-41E4-8762-122AF4B88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722680" y="228240"/>
            <a:ext cx="660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7FB2B9-4292-4AF6-A41A-C3AE4E046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C43A92-8152-49CB-ABCD-A9999EB18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3C9A51-E584-445F-8831-1EBD4A000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F621BA-4CD6-429F-9B93-46FA8B485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8153280" y="6499080"/>
            <a:ext cx="12193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Jump to first page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9353520" y="6551640"/>
            <a:ext cx="142920" cy="15408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9601200" y="6553080"/>
            <a:ext cx="142920" cy="15408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50960" y="6400440"/>
            <a:ext cx="115416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50960" y="6553080"/>
            <a:ext cx="91440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 -</a:t>
            </a:r>
            <a:fld id="{D9357C12-FD07-454E-BE69-3CFEC8C6FBC1}" type="slidenum">
              <a:rPr b="0" lang="en-US" sz="9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155600" y="1523880"/>
            <a:ext cx="874728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620720" y="1676520"/>
            <a:ext cx="828216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804760" y="456840"/>
            <a:ext cx="676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3048120" y="6400440"/>
            <a:ext cx="2063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152280" y="6400440"/>
            <a:ext cx="2887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952880" y="5029200"/>
            <a:ext cx="4519800" cy="11286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95000" y="1604520"/>
            <a:ext cx="89128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apnic.net/services/dns_guide.html" TargetMode="External"/><Relationship Id="rId2" Type="http://schemas.openxmlformats.org/officeDocument/2006/relationships/hyperlink" Target="http://www.apnic.net/services/dns_guide.html" TargetMode="External"/><Relationship Id="rId3" Type="http://schemas.openxmlformats.org/officeDocument/2006/relationships/hyperlink" Target="http://www.apnic.net/services/dns_guide.html" TargetMode="External"/><Relationship Id="rId4" Type="http://schemas.openxmlformats.org/officeDocument/2006/relationships/hyperlink" Target="http://www.apnic.net/services/dns_guide.html" TargetMode="External"/><Relationship Id="rId5" Type="http://schemas.openxmlformats.org/officeDocument/2006/relationships/hyperlink" Target="http://www.apnic.net/services/dns_guide.html" TargetMode="External"/><Relationship Id="rId6" Type="http://schemas.openxmlformats.org/officeDocument/2006/relationships/hyperlink" Target="http://www.apnic.net/services/dns_guide.html" TargetMode="External"/><Relationship Id="rId7" Type="http://schemas.openxmlformats.org/officeDocument/2006/relationships/hyperlink" Target="http://www.apnic.net/services/dns_guide.html" TargetMode="External"/><Relationship Id="rId8" Type="http://schemas.openxmlformats.org/officeDocument/2006/relationships/hyperlink" Target="http://www.apnic.net/services/dns_guide.html" TargetMode="External"/><Relationship Id="rId9" Type="http://schemas.openxmlformats.org/officeDocument/2006/relationships/hyperlink" Target="http://www.apnic.net/services/dns_guide.html" TargetMode="External"/><Relationship Id="rId10" Type="http://schemas.openxmlformats.org/officeDocument/2006/relationships/hyperlink" Target="http://www.apnic.net/services/dns_guide.html" TargetMode="External"/><Relationship Id="rId11" Type="http://schemas.openxmlformats.org/officeDocument/2006/relationships/hyperlink" Target="http://www.apnic.net/db/domain.html" TargetMode="External"/><Relationship Id="rId12" Type="http://schemas.openxmlformats.org/officeDocument/2006/relationships/hyperlink" Target="http://www.apnic.net/db/domain.html" TargetMode="External"/><Relationship Id="rId13" Type="http://schemas.openxmlformats.org/officeDocument/2006/relationships/hyperlink" Target="http://www.apnic.net/db/domain.html" TargetMode="External"/><Relationship Id="rId1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804760" y="456840"/>
            <a:ext cx="676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Reverse DNS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38520" y="1752120"/>
            <a:ext cx="495144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oe Able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abley@isc.or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slideset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Mapping addresses to nam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vert the decimal represent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192.26.1.3 maps to 3.1.26.192 and put this under a top level domain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or IPv4 this TLD is in-addr.arpa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the DNS one publishes PTR records to point back to the nam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76760" y="5562720"/>
            <a:ext cx="9690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10000"/>
                </a:solidFill>
                <a:latin typeface="Courier New"/>
              </a:rPr>
              <a:t>4.0.0.193.in-addr.arpa 3600 IN PTR bert.secret-wg.org.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FC26B5-F57D-4E23-BDDD-4AF4FFDE207C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he reverse tre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304920" y="1674000"/>
            <a:ext cx="5013000" cy="3052800"/>
            <a:chOff x="304920" y="1674000"/>
            <a:chExt cx="5013000" cy="3052800"/>
          </a:xfrm>
        </p:grpSpPr>
        <p:sp>
          <p:nvSpPr>
            <p:cNvPr id="144" name=""/>
            <p:cNvSpPr/>
            <p:nvPr/>
          </p:nvSpPr>
          <p:spPr>
            <a:xfrm flipV="1">
              <a:off x="2363760" y="1673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523880" y="21337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net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971800" y="205740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com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066680" y="289548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rip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04920" y="37339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ww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505320" y="388620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ww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286000" y="21337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edu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7400" y="297180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si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429000" y="2895480"/>
              <a:ext cx="1461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tislab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flipV="1">
              <a:off x="1920960" y="3959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295280" y="365760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disi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316240" y="426708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s1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600200" y="426708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s2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V="1">
              <a:off x="930240" y="32738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flipV="1">
              <a:off x="2363760" y="2511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>
              <a:off x="3368880" y="2435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V="1">
              <a:off x="3735360" y="34261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V="1">
              <a:off x="1373400" y="2511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>
              <a:off x="1941120" y="1981080"/>
              <a:ext cx="48564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535120" y="2057400"/>
              <a:ext cx="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643120" y="1981080"/>
              <a:ext cx="3240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1616040" y="2514600"/>
              <a:ext cx="10944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1400040" y="281952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1184400" y="327672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914400" y="365760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184400" y="3581280"/>
              <a:ext cx="26964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779480" y="3962520"/>
              <a:ext cx="270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1941480" y="4267080"/>
              <a:ext cx="108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211480" y="4267080"/>
              <a:ext cx="162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589120" y="2590920"/>
              <a:ext cx="0" cy="759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>
              <a:off x="2427120" y="2895480"/>
              <a:ext cx="108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238560" y="2438280"/>
              <a:ext cx="216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562200" y="2743200"/>
              <a:ext cx="1080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78200" y="3352680"/>
              <a:ext cx="1080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130400" y="3657600"/>
              <a:ext cx="0" cy="3808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62120" y="39625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ftp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581280" y="2666880"/>
              <a:ext cx="53352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V="1">
              <a:off x="3200400" y="2742840"/>
              <a:ext cx="30492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V="1">
              <a:off x="3352680" y="2742840"/>
              <a:ext cx="152640" cy="6094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669040" y="28195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su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745000" y="327672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moo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039920" y="251460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googl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H="1">
              <a:off x="3778200" y="373392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87" name=""/>
          <p:cNvGrpSpPr/>
          <p:nvPr/>
        </p:nvGrpSpPr>
        <p:grpSpPr>
          <a:xfrm>
            <a:off x="2819520" y="1905120"/>
            <a:ext cx="5165640" cy="1295280"/>
            <a:chOff x="2819520" y="1905120"/>
            <a:chExt cx="5165640" cy="1295280"/>
          </a:xfrm>
        </p:grpSpPr>
        <p:sp>
          <p:nvSpPr>
            <p:cNvPr id="188" name=""/>
            <p:cNvSpPr/>
            <p:nvPr/>
          </p:nvSpPr>
          <p:spPr>
            <a:xfrm>
              <a:off x="2819520" y="1905120"/>
              <a:ext cx="2819160" cy="5331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715000" y="2286000"/>
              <a:ext cx="10065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arpa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477120" y="2666880"/>
              <a:ext cx="121896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7621560" y="27403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3505320" y="3048120"/>
            <a:ext cx="4038480" cy="3573360"/>
            <a:chOff x="3505320" y="3048120"/>
            <a:chExt cx="4038480" cy="3573360"/>
          </a:xfrm>
        </p:grpSpPr>
        <p:sp>
          <p:nvSpPr>
            <p:cNvPr id="193" name=""/>
            <p:cNvSpPr/>
            <p:nvPr/>
          </p:nvSpPr>
          <p:spPr>
            <a:xfrm>
              <a:off x="3505320" y="3962520"/>
              <a:ext cx="2303280" cy="2658960"/>
            </a:xfrm>
            <a:custGeom>
              <a:avLst/>
              <a:gdLst/>
              <a:ahLst/>
              <a:rect l="l" t="t" r="r" b="b"/>
              <a:pathLst>
                <a:path w="1739" h="1675">
                  <a:moveTo>
                    <a:pt x="1671" y="260"/>
                  </a:moveTo>
                  <a:cubicBezTo>
                    <a:pt x="1669" y="247"/>
                    <a:pt x="1662" y="179"/>
                    <a:pt x="1648" y="159"/>
                  </a:cubicBezTo>
                  <a:cubicBezTo>
                    <a:pt x="1606" y="96"/>
                    <a:pt x="1459" y="78"/>
                    <a:pt x="1388" y="68"/>
                  </a:cubicBezTo>
                  <a:cubicBezTo>
                    <a:pt x="1280" y="33"/>
                    <a:pt x="1442" y="91"/>
                    <a:pt x="1320" y="23"/>
                  </a:cubicBezTo>
                  <a:cubicBezTo>
                    <a:pt x="1299" y="11"/>
                    <a:pt x="1252" y="0"/>
                    <a:pt x="1252" y="0"/>
                  </a:cubicBezTo>
                  <a:cubicBezTo>
                    <a:pt x="1090" y="4"/>
                    <a:pt x="927" y="0"/>
                    <a:pt x="765" y="11"/>
                  </a:cubicBezTo>
                  <a:cubicBezTo>
                    <a:pt x="711" y="15"/>
                    <a:pt x="739" y="80"/>
                    <a:pt x="686" y="91"/>
                  </a:cubicBezTo>
                  <a:cubicBezTo>
                    <a:pt x="645" y="100"/>
                    <a:pt x="603" y="98"/>
                    <a:pt x="561" y="102"/>
                  </a:cubicBezTo>
                  <a:cubicBezTo>
                    <a:pt x="516" y="117"/>
                    <a:pt x="494" y="136"/>
                    <a:pt x="460" y="170"/>
                  </a:cubicBezTo>
                  <a:cubicBezTo>
                    <a:pt x="428" y="292"/>
                    <a:pt x="471" y="146"/>
                    <a:pt x="426" y="249"/>
                  </a:cubicBezTo>
                  <a:cubicBezTo>
                    <a:pt x="365" y="386"/>
                    <a:pt x="449" y="247"/>
                    <a:pt x="358" y="385"/>
                  </a:cubicBezTo>
                  <a:cubicBezTo>
                    <a:pt x="335" y="419"/>
                    <a:pt x="290" y="430"/>
                    <a:pt x="256" y="453"/>
                  </a:cubicBezTo>
                  <a:cubicBezTo>
                    <a:pt x="245" y="460"/>
                    <a:pt x="222" y="475"/>
                    <a:pt x="222" y="475"/>
                  </a:cubicBezTo>
                  <a:cubicBezTo>
                    <a:pt x="214" y="486"/>
                    <a:pt x="200" y="495"/>
                    <a:pt x="199" y="509"/>
                  </a:cubicBezTo>
                  <a:cubicBezTo>
                    <a:pt x="193" y="565"/>
                    <a:pt x="230" y="621"/>
                    <a:pt x="177" y="668"/>
                  </a:cubicBezTo>
                  <a:cubicBezTo>
                    <a:pt x="157" y="686"/>
                    <a:pt x="132" y="698"/>
                    <a:pt x="109" y="713"/>
                  </a:cubicBezTo>
                  <a:cubicBezTo>
                    <a:pt x="82" y="731"/>
                    <a:pt x="41" y="781"/>
                    <a:pt x="41" y="781"/>
                  </a:cubicBezTo>
                  <a:cubicBezTo>
                    <a:pt x="0" y="898"/>
                    <a:pt x="13" y="1090"/>
                    <a:pt x="7" y="1211"/>
                  </a:cubicBezTo>
                  <a:cubicBezTo>
                    <a:pt x="11" y="1245"/>
                    <a:pt x="7" y="1281"/>
                    <a:pt x="18" y="1313"/>
                  </a:cubicBezTo>
                  <a:cubicBezTo>
                    <a:pt x="27" y="1339"/>
                    <a:pt x="48" y="1358"/>
                    <a:pt x="63" y="1381"/>
                  </a:cubicBezTo>
                  <a:cubicBezTo>
                    <a:pt x="71" y="1392"/>
                    <a:pt x="86" y="1415"/>
                    <a:pt x="86" y="1415"/>
                  </a:cubicBezTo>
                  <a:cubicBezTo>
                    <a:pt x="109" y="1486"/>
                    <a:pt x="166" y="1524"/>
                    <a:pt x="233" y="1551"/>
                  </a:cubicBezTo>
                  <a:cubicBezTo>
                    <a:pt x="266" y="1564"/>
                    <a:pt x="305" y="1566"/>
                    <a:pt x="335" y="1585"/>
                  </a:cubicBezTo>
                  <a:cubicBezTo>
                    <a:pt x="405" y="1630"/>
                    <a:pt x="480" y="1655"/>
                    <a:pt x="561" y="1675"/>
                  </a:cubicBezTo>
                  <a:cubicBezTo>
                    <a:pt x="798" y="1666"/>
                    <a:pt x="1029" y="1657"/>
                    <a:pt x="1263" y="1619"/>
                  </a:cubicBezTo>
                  <a:cubicBezTo>
                    <a:pt x="1313" y="1585"/>
                    <a:pt x="1348" y="1539"/>
                    <a:pt x="1399" y="1506"/>
                  </a:cubicBezTo>
                  <a:cubicBezTo>
                    <a:pt x="1424" y="1455"/>
                    <a:pt x="1456" y="1425"/>
                    <a:pt x="1490" y="1381"/>
                  </a:cubicBezTo>
                  <a:cubicBezTo>
                    <a:pt x="1507" y="1360"/>
                    <a:pt x="1520" y="1336"/>
                    <a:pt x="1535" y="1313"/>
                  </a:cubicBezTo>
                  <a:cubicBezTo>
                    <a:pt x="1543" y="1302"/>
                    <a:pt x="1558" y="1279"/>
                    <a:pt x="1558" y="1279"/>
                  </a:cubicBezTo>
                  <a:cubicBezTo>
                    <a:pt x="1585" y="1197"/>
                    <a:pt x="1622" y="1113"/>
                    <a:pt x="1671" y="1041"/>
                  </a:cubicBezTo>
                  <a:cubicBezTo>
                    <a:pt x="1704" y="913"/>
                    <a:pt x="1696" y="966"/>
                    <a:pt x="1705" y="804"/>
                  </a:cubicBezTo>
                  <a:cubicBezTo>
                    <a:pt x="1710" y="725"/>
                    <a:pt x="1707" y="645"/>
                    <a:pt x="1716" y="566"/>
                  </a:cubicBezTo>
                  <a:cubicBezTo>
                    <a:pt x="1719" y="542"/>
                    <a:pt x="1739" y="498"/>
                    <a:pt x="1739" y="498"/>
                  </a:cubicBezTo>
                  <a:cubicBezTo>
                    <a:pt x="1728" y="404"/>
                    <a:pt x="1713" y="344"/>
                    <a:pt x="1671" y="260"/>
                  </a:cubicBez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>
              <a:off x="6553080" y="3048120"/>
              <a:ext cx="99072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334120" y="3200400"/>
              <a:ext cx="1676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n-addr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>
              <a:off x="5181120" y="3581280"/>
              <a:ext cx="30492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flipV="1">
              <a:off x="4878360" y="3578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H="1">
              <a:off x="4952880" y="3886200"/>
              <a:ext cx="7632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29200" y="388620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571640" y="3886200"/>
              <a:ext cx="30492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>
              <a:off x="4800240" y="388620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809880" y="5029200"/>
              <a:ext cx="1905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IP v4 addresse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848566-15D9-4DE6-8279-AAB8F70DA705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utli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neral introdu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4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evere mapping and relation to address alloc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roblems and solutions for reverse mapp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6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" y="3352680"/>
            <a:ext cx="121932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22286C-691F-47E9-BF8E-CCB47EB11686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Mapping address to names: mapping problem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IPv4 the mapping is done on 8 bit boundaries (class full), address allocation is class le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Zone administration does not always overlap address administra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have a /19 of address space: divide it in /24s and request a delegation for each one of them as soon as you use the address sp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/25 and smaller we will cover la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AE426B-94B9-4F95-95D3-B52D63429855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Setting your reverse zones</a:t>
            </a: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	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reverse zone file is a regular zone file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OA and NS rrs in the APEX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ostly PTR records in the zone itsel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ke sure the zone is served by the masters and sla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ind9 has a $GENERATE directive that might be hand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2846AD-9F06-4F8F-A192-E9653A82A0B4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 reverse zone examp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11" name=""/>
          <p:cNvSpPr/>
          <p:nvPr/>
        </p:nvSpPr>
        <p:spPr>
          <a:xfrm>
            <a:off x="220320" y="1523880"/>
            <a:ext cx="969048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ORIGIN 1.168.192.in-addr.arpa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@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 IN SOA bert.secret-wg.org. (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olaf\.kolkman.ripe.net. 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h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)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2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PTR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gw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router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PTR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BIND9 auto generate:  65 PTR host65.secret-wg.org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GENERATE 65-127 $ PTR host$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4648320" y="3809880"/>
            <a:ext cx="4114800" cy="685440"/>
            <a:chOff x="4648320" y="3809880"/>
            <a:chExt cx="4114800" cy="685440"/>
          </a:xfrm>
        </p:grpSpPr>
        <p:sp>
          <p:nvSpPr>
            <p:cNvPr id="213" name=""/>
            <p:cNvSpPr/>
            <p:nvPr/>
          </p:nvSpPr>
          <p:spPr>
            <a:xfrm flipV="1">
              <a:off x="4648320" y="4266720"/>
              <a:ext cx="259056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867280" y="3809880"/>
              <a:ext cx="2895840" cy="386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Note trailing dot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B94830-D833-4CA3-9F33-16EAC06C9E7F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Getting a reverse delegatio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e procedure is registry dependen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or APNIC region read: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1"/>
              </a:rPr>
              <a:t>http://www.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2"/>
              </a:rPr>
              <a:t>apnic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3"/>
              </a:rPr>
              <a:t>.net/db/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4"/>
              </a:rPr>
              <a:t>revdel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5"/>
              </a:rPr>
              <a:t>.htm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6"/>
              </a:rPr>
              <a:t>http://www.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7"/>
              </a:rPr>
              <a:t>apnic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8"/>
              </a:rPr>
              <a:t>.net/services/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9"/>
              </a:rPr>
              <a:t>dns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10"/>
              </a:rPr>
              <a:t>_guide.htm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et a delegation from APNIC by filling adding a whois domain object:</a:t>
            </a:r>
            <a:br>
              <a:rPr sz="2400"/>
            </a:b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Arial"/>
                <a:hlinkClick r:id="rId11"/>
              </a:rPr>
              <a:t>http://www.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Arial"/>
                <a:hlinkClick r:id="rId12"/>
              </a:rPr>
              <a:t>apnic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Arial"/>
                <a:hlinkClick r:id="rId13"/>
              </a:rPr>
              <a:t>.net/db/domain.htm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Only /16 and /24 delega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C9B321-AFD4-40B9-B782-45F0269B7454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ois domain objec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18" name=""/>
          <p:cNvSpPr/>
          <p:nvPr/>
        </p:nvSpPr>
        <p:spPr>
          <a:xfrm>
            <a:off x="762120" y="1600200"/>
            <a:ext cx="68580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domain:      28.12.202.in-addr.arpa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descr:       in-addr.arpa zone for 28.12.202.in-addr.arpa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admin-c:     DNS3-AP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tech-c:      DNS3-AP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zone-c:      DNS3-AP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nserver:     ns.telstra.net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nserver:     rs.arin.net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nserver:     ns.myapnic.net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nserver:     svc00.apnic.net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nserver:     ns.apnic.net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mnt-by:      MAINT-APNIC-AP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mnt-lower:   MAINT-DNS-AP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changed:     inaddr@apnic.net 19990810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source:      APNIC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5886F4-DC77-4DDC-AC70-B90AA3CD2C31}" type="slidenum">
              <a:t>1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llocations smaller than /24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magine a /25 address block delegated to a company by an IS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company wants to maintain the reverse mapping of the address they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the reverse DNS one can not delegat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'classless inaddr' technique described in RFC 2317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ased on the use of CNAME R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NAME provide a means to alias names to another namespa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64ECD2-5F06-4BBE-8168-562A822CCC4E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FC2317 explained (1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4560" y="1752120"/>
            <a:ext cx="34290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192.0.2.0/25   to organization A,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192.0.2.128/26 to organization B and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192.0.2.192/26 to organization C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651120" y="1981080"/>
            <a:ext cx="62517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ORIGIN 2.0.192.in-addr.arpa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      PTR     host1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      PTR     host2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      PTR     host3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29    PTR     host1.organizationB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30    PTR     host2.organizationB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31    PTR     host3.organizationB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3     PTR     host1.organizationC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4     PTR     host2.organizationC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5     PTR     host3.organizationC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C8D252-666B-4D4A-BB93-815458E3ADC5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utli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neral introdu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4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evere mapping and relation to address alloc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roblems and solutions for reverse mapp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6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52280" y="2133720"/>
            <a:ext cx="76212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BB2994-994C-4865-B2A0-6F3048312B11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FC2317 explained (2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nerate a ‘sub domain’ for each address block and delegate these to the childre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ame the sub domain after the address blo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0/25, 128/26, and 190/26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0-127, 128-189, 190-255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orgA, orgB, orgC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each name in the zone create a CNAME that points into the delegated namespace e.g.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1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CNAME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1.orgA.2.0.193.inaddr-arpa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52A4E3-05F5-4500-B9E2-A0D64254AF1A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FC2317 explained(3)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Parent zo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1676520"/>
            <a:ext cx="95220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ORIGIN 2.0.192.in-addr.arpa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@       IN      SOA     my-ns.my.domain. ( 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hostmaster.my.domain.</a:t>
            </a:r>
            <a:br>
              <a:rPr sz="1800"/>
            </a:b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...)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..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orgA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 ns1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 ns2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               CNAME   1.orgA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               CNAME   2.orgA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..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orgB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 ns1.organizationB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 ns2.organizationB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29             CNAME   129.orgB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30             CNAME   130.orgB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67C9AB-308B-48DD-A29D-5C14726AD1EA}" type="slidenum">
              <a:t>2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FC2317 explained(4)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hildren’s zo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9" name=""/>
          <p:cNvSpPr/>
          <p:nvPr/>
        </p:nvSpPr>
        <p:spPr>
          <a:xfrm>
            <a:off x="1066680" y="1676520"/>
            <a:ext cx="8153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ORIGIN orgA.2.0.192.in-addr.arpa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@       IN      SOA     ns1.organizationA.com. (</a:t>
            </a:r>
            <a:br>
              <a:rPr sz="1800"/>
            </a:b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hostmaster.organizationA.com.</a:t>
            </a:r>
            <a:br>
              <a:rPr sz="1800"/>
            </a:b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...)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..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@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 ns1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 ns2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PTR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host1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PTR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host2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750075-93AA-491E-953F-5F0AE1125833}" type="slidenum">
              <a:t>2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FC2317 explained(5) 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ould also delegate to a forward zo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ases maintaining consistency in  mapp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04920" y="3352680"/>
            <a:ext cx="4495680" cy="28371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ORIGIN 1.168.192.in-addr.arpa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4      CNAME   in24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5      CNAME   in25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6      CNAME   in26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7      CNAME   in27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8      CNAME   in28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etc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334120" y="3352680"/>
            <a:ext cx="4114800" cy="28371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ORIGIN 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www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A   192.168.1.2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in24  PTR  www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ftp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A   192.168.1.25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in25  PTR  ftp.foo.net.   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ilver A   192.168.1.26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in26   PTR   silver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etc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AF5388-3C80-4D75-A3F6-E3DD0951932A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utli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neral introdu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4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6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address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n the forward tre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n the reverse tre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04920" y="3276720"/>
            <a:ext cx="91440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7A4F97-CE05-4325-8BAD-4568853D0FC2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Pv6 address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28 bi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64 low order bits “host” identifie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e.g. a mapping of the hosts’ Ethernet addres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64 high order bits “network” identifie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Further subdivision inside network id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et’s look at notation first, then at further subdivis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C2DF18-E54D-41F3-B279-7B5865F5E023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Pv6 address Notatio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6 bit integers (in Hex) separated by col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FEDC:BA98:7654:3210:FEDC:BA98:7654:3210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1080:0000:0000:0000:0008:0800:200C:417A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eading zeros can be skipp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1080:0:0:0:8:800:200C:417A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nsecutive NULL 16-bit numbers  </a:t>
            </a:r>
            <a:r>
              <a:rPr b="0" lang="en-US" sz="2800" spc="-1" strike="noStrike">
                <a:solidFill>
                  <a:srgbClr val="01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“::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1080::8:800:200C:417A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CCCBBE-EFF3-47B6-966E-FDD6EC54F233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Pv6 address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globally routable unicast addresses the 1st 3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its are set to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“001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cast addresses are further subdivided in “aggregates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re address classes available lik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Link local: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e80/10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ulticast: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f00/8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pped IPv4 address:   0::ffff:0:0:0:0/96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F69C70-CFA3-4050-964B-BAA01361AE8B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5410080" y="4038480"/>
            <a:ext cx="3886200" cy="18288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Globally routable unicast address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st 3 bits are format pref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ast 16 bits of network ID are used for ‘site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/48 assigned to end-user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IRs minimum allocation size: /32 block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policy still moving targe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60080" y="4249800"/>
            <a:ext cx="8958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|3 |           45          |  16|          64 bits          |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+--+-----------------------+----+---------------------------+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|FP|                       |    |         Interface ID      |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|  |                       |    |                           |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+--+-----------------------+----+---------------------------+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7823F3-5158-4121-945A-E782128A692E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utli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neral introdu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4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6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address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n the forward tre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n the reverse tre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0" y="4419720"/>
            <a:ext cx="91440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A04FB1-E451-4A6B-8C8A-3D2E61130B6C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ddresses in the D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pping from numbers to nam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just ordinary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o different standard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o different oper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you might need a little backgrou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here are some convention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s a moving/developing targe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rst IPv4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B6FD9B-225C-412E-BBC7-3D7F273CBA95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Pv6 address representation in the D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ultiple RR records for name to 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AAA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6  (Experimental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ultiple ways to map address to DNS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ibble notation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it strings and nibbles (Experimental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AB6B2D-0029-4075-ADBB-7A239862D4F3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AAA R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 to number mapp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A RR for IPv4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s the ‘common’ representation of the addre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28600" y="3962520"/>
            <a:ext cx="9372600" cy="11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ourier New"/>
              </a:rPr>
              <a:t>$ORIGIN example.com.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ourier New"/>
              </a:rPr>
              <a:t>host</a:t>
            </a:r>
            <a:r>
              <a:rPr b="1" lang="en-US" sz="20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Courier New"/>
              </a:rPr>
              <a:t> 3600 IN AAAA 2001:238:f00:80:230:65ff:fe28:40f5</a:t>
            </a: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338EB2-5BD4-446B-849A-E6FFD1A2293F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utli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neral introdu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4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6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address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n the forward tre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n the reverse tre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nibbles in ip6.arpa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NAMEs and Bitlabels..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0" y="4800600"/>
            <a:ext cx="91440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8EF9C6-C8CE-42EA-A967-A6E77B3CEF85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verse D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as with IPv4 the responsibility for maintaining the reverse map can be delegated through the address hierarch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umber is translated into 4 bit nibbles under the ip6.arpa (ip6.int) TL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2001:0238::a00:46ff:fe06:1460</a:t>
            </a: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ps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18520" y="5257800"/>
            <a:ext cx="96372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10000"/>
                </a:solidFill>
                <a:latin typeface="Courier New"/>
              </a:rPr>
              <a:t>0.6.4.1.6.0.e.f.f.f.6.4.0.0.a.0.0.0.0.0.0.0.0.0.8.3.2.0.1.0.0.2.ip6.arpa.</a:t>
            </a:r>
            <a:endParaRPr b="0" lang="en-US" sz="17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H="1">
            <a:off x="1066320" y="4343400"/>
            <a:ext cx="4876920" cy="7621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flipH="1">
            <a:off x="2209320" y="4267080"/>
            <a:ext cx="2971800" cy="83844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3123720" y="4267080"/>
            <a:ext cx="1219320" cy="9144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505320" y="4267080"/>
            <a:ext cx="685800" cy="9144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514600" y="4267080"/>
            <a:ext cx="4267080" cy="83844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447920" y="4267080"/>
            <a:ext cx="6705360" cy="9144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0A928B-ACC8-4334-ADB2-FDB6B56982D9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he reverse tre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304920" y="1674000"/>
            <a:ext cx="5013000" cy="3052800"/>
            <a:chOff x="304920" y="1674000"/>
            <a:chExt cx="5013000" cy="3052800"/>
          </a:xfrm>
        </p:grpSpPr>
        <p:sp>
          <p:nvSpPr>
            <p:cNvPr id="269" name=""/>
            <p:cNvSpPr/>
            <p:nvPr/>
          </p:nvSpPr>
          <p:spPr>
            <a:xfrm flipV="1">
              <a:off x="2363760" y="1673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523880" y="21337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net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71800" y="205740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com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066680" y="289548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rip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04920" y="37339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ww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505320" y="388620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ww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286000" y="21337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edu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057400" y="297180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si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429000" y="2895480"/>
              <a:ext cx="1461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tislab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flipV="1">
              <a:off x="1920960" y="3959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295280" y="365760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disi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316240" y="426708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s1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600200" y="426708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s2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flipV="1">
              <a:off x="930240" y="32738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flipV="1">
              <a:off x="2363760" y="2511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V="1">
              <a:off x="3368880" y="2435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>
              <a:off x="3735360" y="34261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>
              <a:off x="1373400" y="2511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>
              <a:off x="1941120" y="1981080"/>
              <a:ext cx="48564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535120" y="2057400"/>
              <a:ext cx="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643120" y="1981080"/>
              <a:ext cx="3240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H="1">
              <a:off x="1616040" y="2514600"/>
              <a:ext cx="10944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>
              <a:off x="1400040" y="281952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 flipH="1">
              <a:off x="1184400" y="327672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flipH="1">
              <a:off x="914400" y="365760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184400" y="3581280"/>
              <a:ext cx="26964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1779480" y="3962520"/>
              <a:ext cx="270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 flipH="1">
              <a:off x="1941480" y="4267080"/>
              <a:ext cx="108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211480" y="4267080"/>
              <a:ext cx="162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89120" y="2590920"/>
              <a:ext cx="0" cy="759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H="1">
              <a:off x="2427120" y="2895480"/>
              <a:ext cx="108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238560" y="2438280"/>
              <a:ext cx="216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62200" y="2743200"/>
              <a:ext cx="1080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778200" y="3352680"/>
              <a:ext cx="1080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130400" y="3657600"/>
              <a:ext cx="0" cy="3808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62120" y="39625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ftp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581280" y="2666880"/>
              <a:ext cx="53352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3200400" y="2742840"/>
              <a:ext cx="30492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flipV="1">
              <a:off x="3352680" y="2742840"/>
              <a:ext cx="152640" cy="6094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669040" y="28195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su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745000" y="327672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moo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039920" y="251460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googl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3778200" y="373392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12" name=""/>
          <p:cNvGrpSpPr/>
          <p:nvPr/>
        </p:nvGrpSpPr>
        <p:grpSpPr>
          <a:xfrm>
            <a:off x="2819520" y="1905120"/>
            <a:ext cx="5165640" cy="1295280"/>
            <a:chOff x="2819520" y="1905120"/>
            <a:chExt cx="5165640" cy="1295280"/>
          </a:xfrm>
        </p:grpSpPr>
        <p:sp>
          <p:nvSpPr>
            <p:cNvPr id="313" name=""/>
            <p:cNvSpPr/>
            <p:nvPr/>
          </p:nvSpPr>
          <p:spPr>
            <a:xfrm>
              <a:off x="2819520" y="1905120"/>
              <a:ext cx="2819160" cy="5331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715000" y="2286000"/>
              <a:ext cx="10065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arpa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477120" y="2666880"/>
              <a:ext cx="121896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flipV="1">
              <a:off x="7621560" y="27403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17" name=""/>
          <p:cNvGrpSpPr/>
          <p:nvPr/>
        </p:nvGrpSpPr>
        <p:grpSpPr>
          <a:xfrm>
            <a:off x="3505320" y="3048120"/>
            <a:ext cx="4038480" cy="3573360"/>
            <a:chOff x="3505320" y="3048120"/>
            <a:chExt cx="4038480" cy="3573360"/>
          </a:xfrm>
        </p:grpSpPr>
        <p:sp>
          <p:nvSpPr>
            <p:cNvPr id="318" name=""/>
            <p:cNvSpPr/>
            <p:nvPr/>
          </p:nvSpPr>
          <p:spPr>
            <a:xfrm>
              <a:off x="3505320" y="3962520"/>
              <a:ext cx="2303280" cy="2658960"/>
            </a:xfrm>
            <a:custGeom>
              <a:avLst/>
              <a:gdLst/>
              <a:ahLst/>
              <a:rect l="l" t="t" r="r" b="b"/>
              <a:pathLst>
                <a:path w="1739" h="1675">
                  <a:moveTo>
                    <a:pt x="1671" y="260"/>
                  </a:moveTo>
                  <a:cubicBezTo>
                    <a:pt x="1669" y="247"/>
                    <a:pt x="1662" y="179"/>
                    <a:pt x="1648" y="159"/>
                  </a:cubicBezTo>
                  <a:cubicBezTo>
                    <a:pt x="1606" y="96"/>
                    <a:pt x="1459" y="78"/>
                    <a:pt x="1388" y="68"/>
                  </a:cubicBezTo>
                  <a:cubicBezTo>
                    <a:pt x="1280" y="33"/>
                    <a:pt x="1442" y="91"/>
                    <a:pt x="1320" y="23"/>
                  </a:cubicBezTo>
                  <a:cubicBezTo>
                    <a:pt x="1299" y="11"/>
                    <a:pt x="1252" y="0"/>
                    <a:pt x="1252" y="0"/>
                  </a:cubicBezTo>
                  <a:cubicBezTo>
                    <a:pt x="1090" y="4"/>
                    <a:pt x="927" y="0"/>
                    <a:pt x="765" y="11"/>
                  </a:cubicBezTo>
                  <a:cubicBezTo>
                    <a:pt x="711" y="15"/>
                    <a:pt x="739" y="80"/>
                    <a:pt x="686" y="91"/>
                  </a:cubicBezTo>
                  <a:cubicBezTo>
                    <a:pt x="645" y="100"/>
                    <a:pt x="603" y="98"/>
                    <a:pt x="561" y="102"/>
                  </a:cubicBezTo>
                  <a:cubicBezTo>
                    <a:pt x="516" y="117"/>
                    <a:pt x="494" y="136"/>
                    <a:pt x="460" y="170"/>
                  </a:cubicBezTo>
                  <a:cubicBezTo>
                    <a:pt x="428" y="292"/>
                    <a:pt x="471" y="146"/>
                    <a:pt x="426" y="249"/>
                  </a:cubicBezTo>
                  <a:cubicBezTo>
                    <a:pt x="365" y="386"/>
                    <a:pt x="449" y="247"/>
                    <a:pt x="358" y="385"/>
                  </a:cubicBezTo>
                  <a:cubicBezTo>
                    <a:pt x="335" y="419"/>
                    <a:pt x="290" y="430"/>
                    <a:pt x="256" y="453"/>
                  </a:cubicBezTo>
                  <a:cubicBezTo>
                    <a:pt x="245" y="460"/>
                    <a:pt x="222" y="475"/>
                    <a:pt x="222" y="475"/>
                  </a:cubicBezTo>
                  <a:cubicBezTo>
                    <a:pt x="214" y="486"/>
                    <a:pt x="200" y="495"/>
                    <a:pt x="199" y="509"/>
                  </a:cubicBezTo>
                  <a:cubicBezTo>
                    <a:pt x="193" y="565"/>
                    <a:pt x="230" y="621"/>
                    <a:pt x="177" y="668"/>
                  </a:cubicBezTo>
                  <a:cubicBezTo>
                    <a:pt x="157" y="686"/>
                    <a:pt x="132" y="698"/>
                    <a:pt x="109" y="713"/>
                  </a:cubicBezTo>
                  <a:cubicBezTo>
                    <a:pt x="82" y="731"/>
                    <a:pt x="41" y="781"/>
                    <a:pt x="41" y="781"/>
                  </a:cubicBezTo>
                  <a:cubicBezTo>
                    <a:pt x="0" y="898"/>
                    <a:pt x="13" y="1090"/>
                    <a:pt x="7" y="1211"/>
                  </a:cubicBezTo>
                  <a:cubicBezTo>
                    <a:pt x="11" y="1245"/>
                    <a:pt x="7" y="1281"/>
                    <a:pt x="18" y="1313"/>
                  </a:cubicBezTo>
                  <a:cubicBezTo>
                    <a:pt x="27" y="1339"/>
                    <a:pt x="48" y="1358"/>
                    <a:pt x="63" y="1381"/>
                  </a:cubicBezTo>
                  <a:cubicBezTo>
                    <a:pt x="71" y="1392"/>
                    <a:pt x="86" y="1415"/>
                    <a:pt x="86" y="1415"/>
                  </a:cubicBezTo>
                  <a:cubicBezTo>
                    <a:pt x="109" y="1486"/>
                    <a:pt x="166" y="1524"/>
                    <a:pt x="233" y="1551"/>
                  </a:cubicBezTo>
                  <a:cubicBezTo>
                    <a:pt x="266" y="1564"/>
                    <a:pt x="305" y="1566"/>
                    <a:pt x="335" y="1585"/>
                  </a:cubicBezTo>
                  <a:cubicBezTo>
                    <a:pt x="405" y="1630"/>
                    <a:pt x="480" y="1655"/>
                    <a:pt x="561" y="1675"/>
                  </a:cubicBezTo>
                  <a:cubicBezTo>
                    <a:pt x="798" y="1666"/>
                    <a:pt x="1029" y="1657"/>
                    <a:pt x="1263" y="1619"/>
                  </a:cubicBezTo>
                  <a:cubicBezTo>
                    <a:pt x="1313" y="1585"/>
                    <a:pt x="1348" y="1539"/>
                    <a:pt x="1399" y="1506"/>
                  </a:cubicBezTo>
                  <a:cubicBezTo>
                    <a:pt x="1424" y="1455"/>
                    <a:pt x="1456" y="1425"/>
                    <a:pt x="1490" y="1381"/>
                  </a:cubicBezTo>
                  <a:cubicBezTo>
                    <a:pt x="1507" y="1360"/>
                    <a:pt x="1520" y="1336"/>
                    <a:pt x="1535" y="1313"/>
                  </a:cubicBezTo>
                  <a:cubicBezTo>
                    <a:pt x="1543" y="1302"/>
                    <a:pt x="1558" y="1279"/>
                    <a:pt x="1558" y="1279"/>
                  </a:cubicBezTo>
                  <a:cubicBezTo>
                    <a:pt x="1585" y="1197"/>
                    <a:pt x="1622" y="1113"/>
                    <a:pt x="1671" y="1041"/>
                  </a:cubicBezTo>
                  <a:cubicBezTo>
                    <a:pt x="1704" y="913"/>
                    <a:pt x="1696" y="966"/>
                    <a:pt x="1705" y="804"/>
                  </a:cubicBezTo>
                  <a:cubicBezTo>
                    <a:pt x="1710" y="725"/>
                    <a:pt x="1707" y="645"/>
                    <a:pt x="1716" y="566"/>
                  </a:cubicBezTo>
                  <a:cubicBezTo>
                    <a:pt x="1719" y="542"/>
                    <a:pt x="1739" y="498"/>
                    <a:pt x="1739" y="498"/>
                  </a:cubicBezTo>
                  <a:cubicBezTo>
                    <a:pt x="1728" y="404"/>
                    <a:pt x="1713" y="344"/>
                    <a:pt x="1671" y="260"/>
                  </a:cubicBez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>
              <a:off x="6553080" y="3048120"/>
              <a:ext cx="99072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334120" y="3200400"/>
              <a:ext cx="1676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n-addr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H="1">
              <a:off x="5181120" y="3581280"/>
              <a:ext cx="30492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 flipV="1">
              <a:off x="4878360" y="3578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H="1">
              <a:off x="4952880" y="3886200"/>
              <a:ext cx="7632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029200" y="388620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 flipH="1">
              <a:off x="4571640" y="3886200"/>
              <a:ext cx="30492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H="1">
              <a:off x="4800240" y="388620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809880" y="5029200"/>
              <a:ext cx="1905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IP v4 addresse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28" name=""/>
          <p:cNvGrpSpPr/>
          <p:nvPr/>
        </p:nvGrpSpPr>
        <p:grpSpPr>
          <a:xfrm>
            <a:off x="6934320" y="4191120"/>
            <a:ext cx="2361960" cy="1973160"/>
            <a:chOff x="6934320" y="4191120"/>
            <a:chExt cx="2361960" cy="1973160"/>
          </a:xfrm>
        </p:grpSpPr>
        <p:sp>
          <p:nvSpPr>
            <p:cNvPr id="329" name=""/>
            <p:cNvSpPr/>
            <p:nvPr/>
          </p:nvSpPr>
          <p:spPr>
            <a:xfrm>
              <a:off x="6934320" y="4267080"/>
              <a:ext cx="2303280" cy="1897200"/>
            </a:xfrm>
            <a:custGeom>
              <a:avLst/>
              <a:gdLst/>
              <a:ahLst/>
              <a:rect l="l" t="t" r="r" b="b"/>
              <a:pathLst>
                <a:path w="1739" h="1675">
                  <a:moveTo>
                    <a:pt x="1671" y="260"/>
                  </a:moveTo>
                  <a:cubicBezTo>
                    <a:pt x="1669" y="247"/>
                    <a:pt x="1662" y="179"/>
                    <a:pt x="1648" y="159"/>
                  </a:cubicBezTo>
                  <a:cubicBezTo>
                    <a:pt x="1606" y="96"/>
                    <a:pt x="1459" y="78"/>
                    <a:pt x="1388" y="68"/>
                  </a:cubicBezTo>
                  <a:cubicBezTo>
                    <a:pt x="1280" y="33"/>
                    <a:pt x="1442" y="91"/>
                    <a:pt x="1320" y="23"/>
                  </a:cubicBezTo>
                  <a:cubicBezTo>
                    <a:pt x="1299" y="11"/>
                    <a:pt x="1252" y="0"/>
                    <a:pt x="1252" y="0"/>
                  </a:cubicBezTo>
                  <a:cubicBezTo>
                    <a:pt x="1090" y="4"/>
                    <a:pt x="927" y="0"/>
                    <a:pt x="765" y="11"/>
                  </a:cubicBezTo>
                  <a:cubicBezTo>
                    <a:pt x="711" y="15"/>
                    <a:pt x="739" y="80"/>
                    <a:pt x="686" y="91"/>
                  </a:cubicBezTo>
                  <a:cubicBezTo>
                    <a:pt x="645" y="100"/>
                    <a:pt x="603" y="98"/>
                    <a:pt x="561" y="102"/>
                  </a:cubicBezTo>
                  <a:cubicBezTo>
                    <a:pt x="516" y="117"/>
                    <a:pt x="494" y="136"/>
                    <a:pt x="460" y="170"/>
                  </a:cubicBezTo>
                  <a:cubicBezTo>
                    <a:pt x="428" y="292"/>
                    <a:pt x="471" y="146"/>
                    <a:pt x="426" y="249"/>
                  </a:cubicBezTo>
                  <a:cubicBezTo>
                    <a:pt x="365" y="386"/>
                    <a:pt x="449" y="247"/>
                    <a:pt x="358" y="385"/>
                  </a:cubicBezTo>
                  <a:cubicBezTo>
                    <a:pt x="335" y="419"/>
                    <a:pt x="290" y="430"/>
                    <a:pt x="256" y="453"/>
                  </a:cubicBezTo>
                  <a:cubicBezTo>
                    <a:pt x="245" y="460"/>
                    <a:pt x="222" y="475"/>
                    <a:pt x="222" y="475"/>
                  </a:cubicBezTo>
                  <a:cubicBezTo>
                    <a:pt x="214" y="486"/>
                    <a:pt x="200" y="495"/>
                    <a:pt x="199" y="509"/>
                  </a:cubicBezTo>
                  <a:cubicBezTo>
                    <a:pt x="193" y="565"/>
                    <a:pt x="230" y="621"/>
                    <a:pt x="177" y="668"/>
                  </a:cubicBezTo>
                  <a:cubicBezTo>
                    <a:pt x="157" y="686"/>
                    <a:pt x="132" y="698"/>
                    <a:pt x="109" y="713"/>
                  </a:cubicBezTo>
                  <a:cubicBezTo>
                    <a:pt x="82" y="731"/>
                    <a:pt x="41" y="781"/>
                    <a:pt x="41" y="781"/>
                  </a:cubicBezTo>
                  <a:cubicBezTo>
                    <a:pt x="0" y="898"/>
                    <a:pt x="13" y="1090"/>
                    <a:pt x="7" y="1211"/>
                  </a:cubicBezTo>
                  <a:cubicBezTo>
                    <a:pt x="11" y="1245"/>
                    <a:pt x="7" y="1281"/>
                    <a:pt x="18" y="1313"/>
                  </a:cubicBezTo>
                  <a:cubicBezTo>
                    <a:pt x="27" y="1339"/>
                    <a:pt x="48" y="1358"/>
                    <a:pt x="63" y="1381"/>
                  </a:cubicBezTo>
                  <a:cubicBezTo>
                    <a:pt x="71" y="1392"/>
                    <a:pt x="86" y="1415"/>
                    <a:pt x="86" y="1415"/>
                  </a:cubicBezTo>
                  <a:cubicBezTo>
                    <a:pt x="109" y="1486"/>
                    <a:pt x="166" y="1524"/>
                    <a:pt x="233" y="1551"/>
                  </a:cubicBezTo>
                  <a:cubicBezTo>
                    <a:pt x="266" y="1564"/>
                    <a:pt x="305" y="1566"/>
                    <a:pt x="335" y="1585"/>
                  </a:cubicBezTo>
                  <a:cubicBezTo>
                    <a:pt x="405" y="1630"/>
                    <a:pt x="480" y="1655"/>
                    <a:pt x="561" y="1675"/>
                  </a:cubicBezTo>
                  <a:cubicBezTo>
                    <a:pt x="798" y="1666"/>
                    <a:pt x="1029" y="1657"/>
                    <a:pt x="1263" y="1619"/>
                  </a:cubicBezTo>
                  <a:cubicBezTo>
                    <a:pt x="1313" y="1585"/>
                    <a:pt x="1348" y="1539"/>
                    <a:pt x="1399" y="1506"/>
                  </a:cubicBezTo>
                  <a:cubicBezTo>
                    <a:pt x="1424" y="1455"/>
                    <a:pt x="1456" y="1425"/>
                    <a:pt x="1490" y="1381"/>
                  </a:cubicBezTo>
                  <a:cubicBezTo>
                    <a:pt x="1507" y="1360"/>
                    <a:pt x="1520" y="1336"/>
                    <a:pt x="1535" y="1313"/>
                  </a:cubicBezTo>
                  <a:cubicBezTo>
                    <a:pt x="1543" y="1302"/>
                    <a:pt x="1558" y="1279"/>
                    <a:pt x="1558" y="1279"/>
                  </a:cubicBezTo>
                  <a:cubicBezTo>
                    <a:pt x="1585" y="1197"/>
                    <a:pt x="1622" y="1113"/>
                    <a:pt x="1671" y="1041"/>
                  </a:cubicBezTo>
                  <a:cubicBezTo>
                    <a:pt x="1704" y="913"/>
                    <a:pt x="1696" y="966"/>
                    <a:pt x="1705" y="804"/>
                  </a:cubicBezTo>
                  <a:cubicBezTo>
                    <a:pt x="1710" y="725"/>
                    <a:pt x="1707" y="645"/>
                    <a:pt x="1716" y="566"/>
                  </a:cubicBezTo>
                  <a:cubicBezTo>
                    <a:pt x="1719" y="542"/>
                    <a:pt x="1739" y="498"/>
                    <a:pt x="1739" y="498"/>
                  </a:cubicBezTo>
                  <a:cubicBezTo>
                    <a:pt x="1728" y="404"/>
                    <a:pt x="1713" y="344"/>
                    <a:pt x="1671" y="260"/>
                  </a:cubicBez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flipH="1">
              <a:off x="8610480" y="4191120"/>
              <a:ext cx="7632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8686800" y="419112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 flipH="1">
              <a:off x="8229240" y="4191120"/>
              <a:ext cx="30492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>
              <a:off x="8457840" y="419112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7391520" y="4876920"/>
              <a:ext cx="19047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IP v6 addresse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35" name=""/>
          <p:cNvGrpSpPr/>
          <p:nvPr/>
        </p:nvGrpSpPr>
        <p:grpSpPr>
          <a:xfrm>
            <a:off x="2895480" y="1828800"/>
            <a:ext cx="6156720" cy="762120"/>
            <a:chOff x="2895480" y="1828800"/>
            <a:chExt cx="6156720" cy="762120"/>
          </a:xfrm>
        </p:grpSpPr>
        <p:sp>
          <p:nvSpPr>
            <p:cNvPr id="336" name=""/>
            <p:cNvSpPr/>
            <p:nvPr/>
          </p:nvSpPr>
          <p:spPr>
            <a:xfrm>
              <a:off x="2895480" y="1828800"/>
              <a:ext cx="4267440" cy="380880"/>
            </a:xfrm>
            <a:prstGeom prst="line">
              <a:avLst/>
            </a:prstGeom>
            <a:ln w="38160">
              <a:solidFill>
                <a:srgbClr val="0099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86600" y="1981080"/>
              <a:ext cx="504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nt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772400" y="2286000"/>
              <a:ext cx="838080" cy="76320"/>
            </a:xfrm>
            <a:prstGeom prst="line">
              <a:avLst/>
            </a:prstGeom>
            <a:ln w="38160">
              <a:solidFill>
                <a:srgbClr val="0099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 flipV="1">
              <a:off x="8688600" y="21308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40" name=""/>
          <p:cNvGrpSpPr/>
          <p:nvPr/>
        </p:nvGrpSpPr>
        <p:grpSpPr>
          <a:xfrm>
            <a:off x="7924680" y="3048120"/>
            <a:ext cx="974880" cy="1295280"/>
            <a:chOff x="7924680" y="3048120"/>
            <a:chExt cx="974880" cy="1295280"/>
          </a:xfrm>
        </p:grpSpPr>
        <p:sp>
          <p:nvSpPr>
            <p:cNvPr id="341" name=""/>
            <p:cNvSpPr/>
            <p:nvPr/>
          </p:nvSpPr>
          <p:spPr>
            <a:xfrm>
              <a:off x="8458200" y="373392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924680" y="3048120"/>
              <a:ext cx="304920" cy="3808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8001000" y="3352680"/>
              <a:ext cx="762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p6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8535960" y="38833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45" name=""/>
          <p:cNvGrpSpPr/>
          <p:nvPr/>
        </p:nvGrpSpPr>
        <p:grpSpPr>
          <a:xfrm>
            <a:off x="8610480" y="2514600"/>
            <a:ext cx="762120" cy="1447920"/>
            <a:chOff x="8610480" y="2514600"/>
            <a:chExt cx="762120" cy="1447920"/>
          </a:xfrm>
        </p:grpSpPr>
        <p:sp>
          <p:nvSpPr>
            <p:cNvPr id="346" name=""/>
            <p:cNvSpPr/>
            <p:nvPr/>
          </p:nvSpPr>
          <p:spPr>
            <a:xfrm>
              <a:off x="8915400" y="2514600"/>
              <a:ext cx="0" cy="457200"/>
            </a:xfrm>
            <a:prstGeom prst="line">
              <a:avLst/>
            </a:prstGeom>
            <a:ln w="38160">
              <a:solidFill>
                <a:srgbClr val="0099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8610480" y="3048120"/>
              <a:ext cx="762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p6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 flipH="1">
              <a:off x="8762760" y="3505320"/>
              <a:ext cx="75960" cy="457200"/>
            </a:xfrm>
            <a:prstGeom prst="line">
              <a:avLst/>
            </a:prstGeom>
            <a:ln w="38160">
              <a:solidFill>
                <a:srgbClr val="0099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45420C-BCBE-4936-B4E3-EE5119608AFE}" type="slidenum">
              <a:t>3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Remember initial allocation is /32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elegation for two /36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10000"/>
                </a:solidFill>
                <a:latin typeface="Courier New"/>
              </a:rPr>
              <a:t>0.8.3.2.0.1.0.0.2.ip6.arpa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10000"/>
                </a:solidFill>
                <a:latin typeface="Courier New"/>
              </a:rPr>
              <a:t>1.8.3.2.0.1.0.0.2.ip6.arpa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Setting up reverse for SUB TLA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459360" y="2362320"/>
            <a:ext cx="9141840" cy="3429000"/>
            <a:chOff x="459360" y="2362320"/>
            <a:chExt cx="9141840" cy="3429000"/>
          </a:xfrm>
        </p:grpSpPr>
        <p:sp>
          <p:nvSpPr>
            <p:cNvPr id="352" name=""/>
            <p:cNvSpPr/>
            <p:nvPr/>
          </p:nvSpPr>
          <p:spPr>
            <a:xfrm>
              <a:off x="6933960" y="3124440"/>
              <a:ext cx="152640" cy="4572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flipH="1" flipV="1">
              <a:off x="7086600" y="3581640"/>
              <a:ext cx="1218960" cy="17524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467480" y="5334120"/>
              <a:ext cx="2133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Can be 1 or 0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459360" y="2362320"/>
              <a:ext cx="7861680" cy="184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FP |                /35 allocations|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|3 |                           /32 |  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|--|----------------------------|--|----……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00100000000000010000001000111000000?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------------ 35 bits --------------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   </a:t>
              </a: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2   0   0   1:  0   2   3   8   0/35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9F7BFD-F128-4529-BF13-4F4F268ADE83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data and the transport layer</a:t>
            </a: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	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principle the transport layer does not have influence on DNS data;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ata can be published by servers running on IPv4 or IPv6, content should not diffe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ransition problem: IPv6 client might not be able to see IPv6 servers and vice ver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ransition problems are by far not solv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xception to above: IPv4 mapped addres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pping is depended on OS librari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964B07-733F-4378-BD29-6DF76180C3F7}" type="slidenum">
              <a:t>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Mapping of addresses to revers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pping from names to addresses is comm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Courier New"/>
              </a:rPr>
              <a:t>bert.secret-wg.org  A 193.0.0.4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ometimes one wants to know which name comes with a given address. If you can translate the address to a FQDN one can use th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esign goal: Delegate maintenance of the reverse DNS to the owner of the address block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70A8F4-D2BE-4108-8AB4-737C1ED3CAB7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Mapping the IPv4 address into the DNS: address allocation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ress allocation is hierarchical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locks of addresses are allocated to LIRs/ISP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maller blocks are allocated to cli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ients will assign address blocks to end user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outing is based on destinations for given address block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istorically on 8 bit boundaries (Class A,B,C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assless Inter Domain Routing (CIDR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8CB32A-955F-43A6-A08A-174B5C4652B4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 flipV="1">
            <a:off x="5181480" y="4571640"/>
            <a:ext cx="1905120" cy="15228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057400" y="3733920"/>
            <a:ext cx="2286000" cy="685800"/>
          </a:xfrm>
          <a:custGeom>
            <a:avLst/>
            <a:gdLst/>
            <a:ahLst/>
            <a:rect l="l" t="t" r="r" b="b"/>
            <a:pathLst>
              <a:path w="1440" h="432">
                <a:moveTo>
                  <a:pt x="0" y="0"/>
                </a:moveTo>
                <a:cubicBezTo>
                  <a:pt x="408" y="36"/>
                  <a:pt x="816" y="72"/>
                  <a:pt x="1056" y="144"/>
                </a:cubicBezTo>
                <a:cubicBezTo>
                  <a:pt x="1296" y="216"/>
                  <a:pt x="1368" y="324"/>
                  <a:pt x="1440" y="432"/>
                </a:cubicBezTo>
              </a:path>
            </a:pathLst>
          </a:custGeom>
          <a:noFill/>
          <a:ln w="2844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981080" y="4876920"/>
            <a:ext cx="2057400" cy="457200"/>
          </a:xfrm>
          <a:custGeom>
            <a:avLst/>
            <a:gdLst/>
            <a:ahLst/>
            <a:rect l="l" t="t" r="r" b="b"/>
            <a:pathLst>
              <a:path w="1296" h="288">
                <a:moveTo>
                  <a:pt x="0" y="288"/>
                </a:moveTo>
                <a:cubicBezTo>
                  <a:pt x="372" y="264"/>
                  <a:pt x="744" y="240"/>
                  <a:pt x="960" y="192"/>
                </a:cubicBezTo>
                <a:cubicBezTo>
                  <a:pt x="1176" y="144"/>
                  <a:pt x="1236" y="72"/>
                  <a:pt x="1296" y="0"/>
                </a:cubicBezTo>
              </a:path>
            </a:pathLst>
          </a:custGeom>
          <a:noFill/>
          <a:ln w="2844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828800" y="4406760"/>
            <a:ext cx="2133720" cy="165240"/>
          </a:xfrm>
          <a:custGeom>
            <a:avLst/>
            <a:gdLst/>
            <a:ahLst/>
            <a:rect l="l" t="t" r="r" b="b"/>
            <a:pathLst>
              <a:path w="1344" h="104">
                <a:moveTo>
                  <a:pt x="0" y="56"/>
                </a:moveTo>
                <a:cubicBezTo>
                  <a:pt x="416" y="28"/>
                  <a:pt x="832" y="0"/>
                  <a:pt x="1056" y="8"/>
                </a:cubicBezTo>
                <a:cubicBezTo>
                  <a:pt x="1280" y="16"/>
                  <a:pt x="1312" y="60"/>
                  <a:pt x="1344" y="104"/>
                </a:cubicBezTo>
              </a:path>
            </a:pathLst>
          </a:custGeom>
          <a:noFill/>
          <a:ln w="2844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86000" y="4952880"/>
            <a:ext cx="1981080" cy="1257480"/>
          </a:xfrm>
          <a:custGeom>
            <a:avLst/>
            <a:gdLst/>
            <a:ahLst/>
            <a:rect l="l" t="t" r="r" b="b"/>
            <a:pathLst>
              <a:path w="1248" h="792">
                <a:moveTo>
                  <a:pt x="0" y="720"/>
                </a:moveTo>
                <a:cubicBezTo>
                  <a:pt x="232" y="756"/>
                  <a:pt x="464" y="792"/>
                  <a:pt x="672" y="672"/>
                </a:cubicBezTo>
                <a:cubicBezTo>
                  <a:pt x="880" y="552"/>
                  <a:pt x="1064" y="276"/>
                  <a:pt x="1248" y="0"/>
                </a:cubicBezTo>
              </a:path>
            </a:pathLst>
          </a:custGeom>
          <a:noFill/>
          <a:ln w="2844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assless inter domain routing (CIDR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outing table size (router memory) is a limited resour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oal of CIDR: aggregate many small address block into one larger block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156360" y="3452760"/>
            <a:ext cx="3203640" cy="2033640"/>
          </a:xfrm>
          <a:custGeom>
            <a:avLst/>
            <a:gdLst/>
            <a:ahLst/>
            <a:rect l="l" t="t" r="r" b="b"/>
            <a:pathLst>
              <a:path w="2018" h="1281">
                <a:moveTo>
                  <a:pt x="929" y="170"/>
                </a:moveTo>
                <a:cubicBezTo>
                  <a:pt x="950" y="201"/>
                  <a:pt x="944" y="202"/>
                  <a:pt x="997" y="211"/>
                </a:cubicBezTo>
                <a:cubicBezTo>
                  <a:pt x="1005" y="212"/>
                  <a:pt x="985" y="199"/>
                  <a:pt x="977" y="197"/>
                </a:cubicBezTo>
                <a:cubicBezTo>
                  <a:pt x="941" y="186"/>
                  <a:pt x="905" y="177"/>
                  <a:pt x="868" y="170"/>
                </a:cubicBezTo>
                <a:cubicBezTo>
                  <a:pt x="822" y="161"/>
                  <a:pt x="776" y="156"/>
                  <a:pt x="731" y="143"/>
                </a:cubicBezTo>
                <a:cubicBezTo>
                  <a:pt x="699" y="134"/>
                  <a:pt x="668" y="123"/>
                  <a:pt x="636" y="116"/>
                </a:cubicBezTo>
                <a:cubicBezTo>
                  <a:pt x="582" y="104"/>
                  <a:pt x="472" y="88"/>
                  <a:pt x="472" y="88"/>
                </a:cubicBezTo>
                <a:cubicBezTo>
                  <a:pt x="375" y="50"/>
                  <a:pt x="291" y="44"/>
                  <a:pt x="186" y="34"/>
                </a:cubicBezTo>
                <a:cubicBezTo>
                  <a:pt x="152" y="43"/>
                  <a:pt x="117" y="48"/>
                  <a:pt x="84" y="61"/>
                </a:cubicBezTo>
                <a:cubicBezTo>
                  <a:pt x="60" y="70"/>
                  <a:pt x="36" y="122"/>
                  <a:pt x="36" y="122"/>
                </a:cubicBezTo>
                <a:cubicBezTo>
                  <a:pt x="20" y="171"/>
                  <a:pt x="12" y="222"/>
                  <a:pt x="2" y="272"/>
                </a:cubicBezTo>
                <a:cubicBezTo>
                  <a:pt x="6" y="324"/>
                  <a:pt x="0" y="379"/>
                  <a:pt x="15" y="429"/>
                </a:cubicBezTo>
                <a:cubicBezTo>
                  <a:pt x="20" y="445"/>
                  <a:pt x="43" y="446"/>
                  <a:pt x="56" y="457"/>
                </a:cubicBezTo>
                <a:cubicBezTo>
                  <a:pt x="71" y="469"/>
                  <a:pt x="82" y="485"/>
                  <a:pt x="97" y="497"/>
                </a:cubicBezTo>
                <a:cubicBezTo>
                  <a:pt x="185" y="571"/>
                  <a:pt x="279" y="598"/>
                  <a:pt x="384" y="634"/>
                </a:cubicBezTo>
                <a:cubicBezTo>
                  <a:pt x="377" y="662"/>
                  <a:pt x="364" y="682"/>
                  <a:pt x="356" y="709"/>
                </a:cubicBezTo>
                <a:cubicBezTo>
                  <a:pt x="352" y="723"/>
                  <a:pt x="343" y="750"/>
                  <a:pt x="343" y="750"/>
                </a:cubicBezTo>
                <a:cubicBezTo>
                  <a:pt x="378" y="848"/>
                  <a:pt x="385" y="834"/>
                  <a:pt x="459" y="893"/>
                </a:cubicBezTo>
                <a:cubicBezTo>
                  <a:pt x="469" y="901"/>
                  <a:pt x="474" y="915"/>
                  <a:pt x="486" y="920"/>
                </a:cubicBezTo>
                <a:cubicBezTo>
                  <a:pt x="532" y="938"/>
                  <a:pt x="629" y="961"/>
                  <a:pt x="629" y="961"/>
                </a:cubicBezTo>
                <a:cubicBezTo>
                  <a:pt x="613" y="986"/>
                  <a:pt x="595" y="1043"/>
                  <a:pt x="595" y="1043"/>
                </a:cubicBezTo>
                <a:cubicBezTo>
                  <a:pt x="597" y="1068"/>
                  <a:pt x="594" y="1094"/>
                  <a:pt x="602" y="1118"/>
                </a:cubicBezTo>
                <a:cubicBezTo>
                  <a:pt x="609" y="1140"/>
                  <a:pt x="665" y="1164"/>
                  <a:pt x="677" y="1172"/>
                </a:cubicBezTo>
                <a:cubicBezTo>
                  <a:pt x="737" y="1210"/>
                  <a:pt x="794" y="1261"/>
                  <a:pt x="868" y="1268"/>
                </a:cubicBezTo>
                <a:cubicBezTo>
                  <a:pt x="945" y="1275"/>
                  <a:pt x="1023" y="1277"/>
                  <a:pt x="1100" y="1281"/>
                </a:cubicBezTo>
                <a:cubicBezTo>
                  <a:pt x="1195" y="1279"/>
                  <a:pt x="1291" y="1281"/>
                  <a:pt x="1386" y="1275"/>
                </a:cubicBezTo>
                <a:cubicBezTo>
                  <a:pt x="1467" y="1270"/>
                  <a:pt x="1539" y="1183"/>
                  <a:pt x="1591" y="1131"/>
                </a:cubicBezTo>
                <a:cubicBezTo>
                  <a:pt x="1629" y="1093"/>
                  <a:pt x="1684" y="1053"/>
                  <a:pt x="1713" y="1009"/>
                </a:cubicBezTo>
                <a:cubicBezTo>
                  <a:pt x="1761" y="937"/>
                  <a:pt x="1812" y="873"/>
                  <a:pt x="1863" y="804"/>
                </a:cubicBezTo>
                <a:cubicBezTo>
                  <a:pt x="1941" y="699"/>
                  <a:pt x="1884" y="745"/>
                  <a:pt x="1959" y="695"/>
                </a:cubicBezTo>
                <a:cubicBezTo>
                  <a:pt x="1963" y="681"/>
                  <a:pt x="1965" y="666"/>
                  <a:pt x="1972" y="654"/>
                </a:cubicBezTo>
                <a:cubicBezTo>
                  <a:pt x="2018" y="578"/>
                  <a:pt x="1989" y="670"/>
                  <a:pt x="2007" y="600"/>
                </a:cubicBezTo>
                <a:cubicBezTo>
                  <a:pt x="1995" y="518"/>
                  <a:pt x="1985" y="532"/>
                  <a:pt x="1904" y="477"/>
                </a:cubicBezTo>
                <a:cubicBezTo>
                  <a:pt x="1893" y="470"/>
                  <a:pt x="1887" y="458"/>
                  <a:pt x="1877" y="450"/>
                </a:cubicBezTo>
                <a:cubicBezTo>
                  <a:pt x="1873" y="447"/>
                  <a:pt x="1814" y="408"/>
                  <a:pt x="1795" y="395"/>
                </a:cubicBezTo>
                <a:cubicBezTo>
                  <a:pt x="1774" y="381"/>
                  <a:pt x="1743" y="383"/>
                  <a:pt x="1720" y="375"/>
                </a:cubicBezTo>
                <a:cubicBezTo>
                  <a:pt x="1684" y="339"/>
                  <a:pt x="1633" y="283"/>
                  <a:pt x="1584" y="266"/>
                </a:cubicBezTo>
                <a:cubicBezTo>
                  <a:pt x="1570" y="261"/>
                  <a:pt x="1557" y="257"/>
                  <a:pt x="1543" y="252"/>
                </a:cubicBezTo>
                <a:cubicBezTo>
                  <a:pt x="1536" y="250"/>
                  <a:pt x="1522" y="245"/>
                  <a:pt x="1522" y="245"/>
                </a:cubicBezTo>
                <a:cubicBezTo>
                  <a:pt x="1559" y="236"/>
                  <a:pt x="1632" y="211"/>
                  <a:pt x="1632" y="211"/>
                </a:cubicBezTo>
                <a:cubicBezTo>
                  <a:pt x="1689" y="153"/>
                  <a:pt x="1672" y="184"/>
                  <a:pt x="1693" y="122"/>
                </a:cubicBezTo>
                <a:cubicBezTo>
                  <a:pt x="1691" y="95"/>
                  <a:pt x="1693" y="67"/>
                  <a:pt x="1686" y="41"/>
                </a:cubicBezTo>
                <a:cubicBezTo>
                  <a:pt x="1684" y="33"/>
                  <a:pt x="1674" y="28"/>
                  <a:pt x="1666" y="27"/>
                </a:cubicBezTo>
                <a:cubicBezTo>
                  <a:pt x="1612" y="17"/>
                  <a:pt x="1392" y="3"/>
                  <a:pt x="1352" y="0"/>
                </a:cubicBezTo>
                <a:cubicBezTo>
                  <a:pt x="1279" y="2"/>
                  <a:pt x="1207" y="3"/>
                  <a:pt x="1134" y="7"/>
                </a:cubicBezTo>
                <a:cubicBezTo>
                  <a:pt x="1124" y="8"/>
                  <a:pt x="1114" y="8"/>
                  <a:pt x="1106" y="13"/>
                </a:cubicBezTo>
                <a:cubicBezTo>
                  <a:pt x="1075" y="33"/>
                  <a:pt x="1077" y="105"/>
                  <a:pt x="1066" y="136"/>
                </a:cubicBezTo>
                <a:cubicBezTo>
                  <a:pt x="1056" y="164"/>
                  <a:pt x="1050" y="156"/>
                  <a:pt x="1025" y="163"/>
                </a:cubicBezTo>
                <a:cubicBezTo>
                  <a:pt x="1018" y="165"/>
                  <a:pt x="1004" y="170"/>
                  <a:pt x="1004" y="170"/>
                </a:cubicBezTo>
              </a:path>
            </a:pathLst>
          </a:cu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162560" y="4038480"/>
            <a:ext cx="111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657600" y="4323240"/>
            <a:ext cx="1774800" cy="649800"/>
          </a:xfrm>
          <a:prstGeom prst="ellipse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ISP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2400" y="3408840"/>
            <a:ext cx="1839600" cy="64980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custom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67840" y="4170960"/>
            <a:ext cx="1839600" cy="64980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custom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67840" y="5009040"/>
            <a:ext cx="1839600" cy="64980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custom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72400" y="5771160"/>
            <a:ext cx="1839600" cy="64980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custom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447920" y="5791320"/>
            <a:ext cx="214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2.168.3/2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295280" y="5029200"/>
            <a:ext cx="214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2.168.2/2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295280" y="4191120"/>
            <a:ext cx="214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2.168.1/2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600200" y="3429000"/>
            <a:ext cx="214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2.168.0/2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952880" y="4114800"/>
            <a:ext cx="214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2.168.0/22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486400" y="4723920"/>
            <a:ext cx="380880" cy="121932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724280" y="5943600"/>
            <a:ext cx="2306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Aggregated rout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23CB3E-6A40-4CF1-8D52-A2E7A88BED66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2133720" y="4419720"/>
            <a:ext cx="4190760" cy="304560"/>
          </a:xfrm>
          <a:prstGeom prst="rect">
            <a:avLst/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Mapping the IPv4 address into the DNS: address blocks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ress block notation: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&lt;address&gt;/&lt;number of significant bits&gt;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or instance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193.0.0.0/8 or short 193/8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193.165.64/19=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0xc1a54000/19 =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1100 0001 1001 0101 0010 0000 0000 0000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3886200" y="4724280"/>
            <a:ext cx="914400" cy="60984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955960" y="5222880"/>
            <a:ext cx="10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19 bits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6A04B8-464F-44BB-B81D-1C7B34B805B0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" name=""/>
          <p:cNvGrpSpPr/>
          <p:nvPr/>
        </p:nvGrpSpPr>
        <p:grpSpPr>
          <a:xfrm>
            <a:off x="4724280" y="4038480"/>
            <a:ext cx="3276720" cy="978120"/>
            <a:chOff x="4724280" y="4038480"/>
            <a:chExt cx="3276720" cy="978120"/>
          </a:xfrm>
        </p:grpSpPr>
        <p:sp>
          <p:nvSpPr>
            <p:cNvPr id="124" name=""/>
            <p:cNvSpPr/>
            <p:nvPr/>
          </p:nvSpPr>
          <p:spPr>
            <a:xfrm>
              <a:off x="4724280" y="4038480"/>
              <a:ext cx="457200" cy="38124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029200" y="4495680"/>
              <a:ext cx="2971800" cy="520920"/>
            </a:xfrm>
            <a:custGeom>
              <a:avLst/>
              <a:gdLst/>
              <a:ahLst/>
              <a:rect l="l" t="t" r="r" b="b"/>
              <a:pathLst>
                <a:path w="1872" h="328">
                  <a:moveTo>
                    <a:pt x="0" y="0"/>
                  </a:moveTo>
                  <a:cubicBezTo>
                    <a:pt x="184" y="96"/>
                    <a:pt x="368" y="192"/>
                    <a:pt x="624" y="240"/>
                  </a:cubicBezTo>
                  <a:cubicBezTo>
                    <a:pt x="880" y="288"/>
                    <a:pt x="1328" y="328"/>
                    <a:pt x="1536" y="288"/>
                  </a:cubicBezTo>
                  <a:cubicBezTo>
                    <a:pt x="1744" y="248"/>
                    <a:pt x="1808" y="124"/>
                    <a:pt x="1872" y="0"/>
                  </a:cubicBezTo>
                </a:path>
              </a:pathLst>
            </a:custGeom>
            <a:noFill/>
            <a:ln w="38160">
              <a:solidFill>
                <a:srgbClr val="0099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Pv4 address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4343400" y="4038480"/>
            <a:ext cx="3124080" cy="1752840"/>
            <a:chOff x="4343400" y="4038480"/>
            <a:chExt cx="3124080" cy="1752840"/>
          </a:xfrm>
        </p:grpSpPr>
        <p:sp>
          <p:nvSpPr>
            <p:cNvPr id="128" name=""/>
            <p:cNvSpPr/>
            <p:nvPr/>
          </p:nvSpPr>
          <p:spPr>
            <a:xfrm>
              <a:off x="4343400" y="4038480"/>
              <a:ext cx="457200" cy="381240"/>
            </a:xfrm>
            <a:prstGeom prst="rect">
              <a:avLst/>
            </a:prstGeom>
            <a:solidFill>
              <a:srgbClr val="ff9966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495680" y="4495680"/>
              <a:ext cx="2971800" cy="1295640"/>
            </a:xfrm>
            <a:custGeom>
              <a:avLst/>
              <a:gdLst/>
              <a:ahLst/>
              <a:rect l="l" t="t" r="r" b="b"/>
              <a:pathLst>
                <a:path w="1872" h="328">
                  <a:moveTo>
                    <a:pt x="0" y="0"/>
                  </a:moveTo>
                  <a:cubicBezTo>
                    <a:pt x="184" y="96"/>
                    <a:pt x="368" y="192"/>
                    <a:pt x="624" y="240"/>
                  </a:cubicBezTo>
                  <a:cubicBezTo>
                    <a:pt x="880" y="288"/>
                    <a:pt x="1328" y="328"/>
                    <a:pt x="1536" y="288"/>
                  </a:cubicBezTo>
                  <a:cubicBezTo>
                    <a:pt x="1744" y="248"/>
                    <a:pt x="1808" y="124"/>
                    <a:pt x="1872" y="0"/>
                  </a:cubicBezTo>
                </a:path>
              </a:pathLst>
            </a:custGeom>
            <a:noFill/>
            <a:ln w="38160">
              <a:solidFill>
                <a:srgbClr val="0099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429000" y="3657240"/>
            <a:ext cx="3124080" cy="762480"/>
            <a:chOff x="3429000" y="3657240"/>
            <a:chExt cx="3124080" cy="762480"/>
          </a:xfrm>
        </p:grpSpPr>
        <p:sp>
          <p:nvSpPr>
            <p:cNvPr id="131" name=""/>
            <p:cNvSpPr/>
            <p:nvPr/>
          </p:nvSpPr>
          <p:spPr>
            <a:xfrm>
              <a:off x="3429000" y="4038480"/>
              <a:ext cx="457200" cy="38124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V="1">
              <a:off x="3581280" y="3656880"/>
              <a:ext cx="2971800" cy="304920"/>
            </a:xfrm>
            <a:custGeom>
              <a:avLst/>
              <a:gdLst/>
              <a:ahLst/>
              <a:rect l="l" t="t" r="r" b="b"/>
              <a:pathLst>
                <a:path w="1872" h="328">
                  <a:moveTo>
                    <a:pt x="0" y="0"/>
                  </a:moveTo>
                  <a:cubicBezTo>
                    <a:pt x="184" y="96"/>
                    <a:pt x="368" y="192"/>
                    <a:pt x="624" y="240"/>
                  </a:cubicBezTo>
                  <a:cubicBezTo>
                    <a:pt x="880" y="288"/>
                    <a:pt x="1328" y="328"/>
                    <a:pt x="1536" y="288"/>
                  </a:cubicBezTo>
                  <a:cubicBezTo>
                    <a:pt x="1744" y="248"/>
                    <a:pt x="1808" y="124"/>
                    <a:pt x="1872" y="0"/>
                  </a:cubicBezTo>
                </a:path>
              </a:pathLst>
            </a:custGeom>
            <a:noFill/>
            <a:ln w="38160">
              <a:solidFill>
                <a:srgbClr val="0099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3886200" y="3352680"/>
            <a:ext cx="3200400" cy="1067040"/>
            <a:chOff x="3886200" y="3352680"/>
            <a:chExt cx="3200400" cy="1067040"/>
          </a:xfrm>
        </p:grpSpPr>
        <p:sp>
          <p:nvSpPr>
            <p:cNvPr id="134" name=""/>
            <p:cNvSpPr/>
            <p:nvPr/>
          </p:nvSpPr>
          <p:spPr>
            <a:xfrm>
              <a:off x="3886200" y="4038480"/>
              <a:ext cx="457200" cy="38124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V="1">
              <a:off x="4114800" y="3352680"/>
              <a:ext cx="2971800" cy="609840"/>
            </a:xfrm>
            <a:custGeom>
              <a:avLst/>
              <a:gdLst/>
              <a:ahLst/>
              <a:rect l="l" t="t" r="r" b="b"/>
              <a:pathLst>
                <a:path w="1872" h="328">
                  <a:moveTo>
                    <a:pt x="0" y="0"/>
                  </a:moveTo>
                  <a:cubicBezTo>
                    <a:pt x="184" y="96"/>
                    <a:pt x="368" y="192"/>
                    <a:pt x="624" y="240"/>
                  </a:cubicBezTo>
                  <a:cubicBezTo>
                    <a:pt x="880" y="288"/>
                    <a:pt x="1328" y="328"/>
                    <a:pt x="1536" y="288"/>
                  </a:cubicBezTo>
                  <a:cubicBezTo>
                    <a:pt x="1744" y="248"/>
                    <a:pt x="1808" y="124"/>
                    <a:pt x="1872" y="0"/>
                  </a:cubicBezTo>
                </a:path>
              </a:pathLst>
            </a:custGeom>
            <a:noFill/>
            <a:ln w="38160">
              <a:solidFill>
                <a:srgbClr val="0099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 IP address is a 4 byte number normally represented by the decimal representation of the 4 bytes separated by do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10000"/>
                </a:solidFill>
                <a:latin typeface="Courier New"/>
              </a:rPr>
              <a:t>0xC1000004  </a:t>
            </a:r>
            <a:r>
              <a:rPr b="1" lang="en-US" sz="2800" spc="-1" strike="noStrike">
                <a:solidFill>
                  <a:srgbClr val="010000"/>
                </a:solidFill>
                <a:latin typeface="Symbol"/>
                <a:ea typeface="Symbol"/>
              </a:rPr>
              <a:t></a:t>
            </a:r>
            <a:r>
              <a:rPr b="1" lang="en-US" sz="2800" spc="-1" strike="noStrike">
                <a:solidFill>
                  <a:srgbClr val="010000"/>
                </a:solidFill>
                <a:latin typeface="Courier New"/>
              </a:rPr>
              <a:t> 193.0.0.4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th allocation on 8 bit boundaries this leads to a simple delegation sche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446C6C-932B-46F5-B9AF-E752BEE7E53F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Mapping the IPv4 address into the DNS 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xample 192.26.1.3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192/8 is allocated to a R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192.26/16 is allocated by RIR to LIR/ISP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192.26.1/24 is assigned by ISP to a company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elegation in the DN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oot delegates 192 domain to R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IR delegates “26” sub-zone to IS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SP delegates  “1”  sub-zone to company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 that makes this possible: 1.26.19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5F9DB0-BC56-458E-A6D0-8067231A2653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8T15:25:20Z</dcterms:created>
  <dc:creator>Olaf M. Kolkman</dc:creator>
  <dc:description/>
  <dc:language>en-US</dc:language>
  <cp:lastModifiedBy>Marmaduke Wildebeeste</cp:lastModifiedBy>
  <cp:lastPrinted>2003-02-21T01:39:00Z</cp:lastPrinted>
  <dcterms:modified xsi:type="dcterms:W3CDTF">2003-06-01T20:53:51Z</dcterms:modified>
  <cp:revision>47</cp:revision>
  <dc:subject/>
  <dc:title>PowerPoint Presentation  -  Reverse DNS</dc:title>
</cp:coreProperties>
</file>